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81E-46B4-4998-B8C2-93C1453A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84F-5A61-4A69-B616-F41B8A31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F66-2887-4F08-A1B3-BFB358F7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F3E-A37A-4BD7-9685-91AA07C1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7C28-6B6C-486D-800B-F96AE07F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BC1E-3AA1-4BE6-A140-8282AA12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C272-E22C-4D60-A948-E34A7219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5D53-78F6-4B54-B577-CA5ADBFB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C9CD-4298-448C-85A1-654CCFE5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919C-0870-4572-8E9A-874CC430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E418-A791-4839-8D5B-212D93AA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CF4-989C-4783-8F3D-B0107061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6C8D-B7F9-4AE7-9111-0FFFC3D8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8121-69A5-4F7D-ACDC-92AD6455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86F0-45BA-4A4B-9F03-87CCF19A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16FF-611A-48B2-95CB-A01937CB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DEDA-F6CF-4712-827B-23157FB2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192-241E-4979-BEAD-D3C629D2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404-BD53-4688-91E5-A06BBBAF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BAA-85B6-47C7-A520-CBA45C2D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504-651A-4E04-B5CA-ABBF2FB8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525-2D88-4674-9688-C2159501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6A7-E8D6-4F6D-9A27-7FEF9D8B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9C7-D97E-490A-837E-77087441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219E-4894-44F5-BDAA-9475C1119F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3E68-2C83-4708-A342-44051F23C4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these tricky wor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t, amatur, collum, forein, Febuary, lic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, amateur, column, foreign, February, lic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reewri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bout anyt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quiz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in letters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ssignment-worth 2 test grad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research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44:25Z</dcterms:created>
  <dc:creator>vhs</dc:creator>
  <dc:description/>
  <dc:language>en-US</dc:language>
  <cp:lastModifiedBy>vhs</cp:lastModifiedBy>
  <dcterms:modified xsi:type="dcterms:W3CDTF">2009-03-18T18:53:10Z</dcterms:modified>
  <cp:revision>1</cp:revision>
  <dc:subject/>
  <dc:title>DOL</dc:title>
</cp:coreProperties>
</file>